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AE61-62B0-49B4-9291-3C9F9A801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72BF-5C5A-4EF3-AD3E-A82351FE2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197C4-476A-4AAB-9000-C12654E4C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78D2A-A275-429A-AE05-DF0771C6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4B9A7-E0CD-4510-AD7B-F33D41646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CBAAC-B91C-4E2D-9B43-8A4A146E1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3B339-991F-4AEE-94EC-24BC15680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BE616-5DFE-44D6-8E2D-028B91782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4ECE3-CAB0-416C-8720-5F658CCF0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4C4C3-0337-43E5-93D9-D43571AF8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B1C31-5F14-41CE-8714-52AC6BB4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CCE2-0477-42A9-8C3E-52F0CA5D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2E7BF-AF45-43D5-B75E-02F161DCB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7D12B-7745-47DF-A647-7C03DABE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BA844-CA7B-40B7-97F1-96C2A83D2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7EFC6-33CD-4A4B-8CF6-BC4C30764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CFC87-340B-4F80-B008-34B96301D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BCB8E-43EC-4539-8FA6-AF0075437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84BC3-65E8-490B-ABF8-AD02693E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4E17-4079-4F35-BAF0-A5C27CA8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1B6EB-F223-4989-9495-D574AF3BA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B06C-6615-4D55-AAA8-A534F825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D7F2-1942-40EA-AFE2-39B04D07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DD8A-B37A-46DF-BAEE-0D5B66181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A66C-F05D-4900-BCD6-10F5E7263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1D70-0574-4D80-A953-C307163738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quiry-based Teaching vs. Direct Instruction:</a:t>
            </a:r>
            <a:br>
              <a:rPr sz="4400"/>
            </a:br>
            <a:r>
              <a:rPr b="0" lang="en-US" sz="2800" spc="-1" strike="noStrike">
                <a:solidFill>
                  <a:srgbClr val="ff0000"/>
                </a:solidFill>
                <a:latin typeface="Comic Sans MS"/>
              </a:rPr>
              <a:t>Should they be done in isolation?</a:t>
            </a:r>
            <a:endParaRPr b="0" lang="en-US" sz="28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ima Naureen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y Jeffery</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du. 7201T Fall 2010</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ble of Contents</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Proble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ture Re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ment of the Hypothes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tement of the Problem</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exists research done by professional educators and theorists who posit statements and provide evidence in support of both the inquiry method and direct instruction method of teaching scienc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 school X, located in New York City urban area, has been implementing the direct method of teaching for years.  This method has not resulted in significant improvement in the children’s Stanford Examination test scores.  It was noted that the children also become teacher dependen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strongly feel that merging an inquiry-based curriculum with the direct instruction strategy should help to improve the student’s performance and foster an independent learning styl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ture Review</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orists who inspired researchers and practitioners to adapt inquiry-based method of teaching/learning are </a:t>
            </a:r>
            <a:r>
              <a:rPr b="0" lang="en-US" sz="2800" spc="-1" strike="noStrike">
                <a:solidFill>
                  <a:srgbClr val="000000"/>
                </a:solidFill>
                <a:latin typeface="Comic Sans MS"/>
              </a:rPr>
              <a:t>John Dewey, Piaget, Montessori, and Bruner</a:t>
            </a:r>
            <a:r>
              <a:rPr b="0" lang="en-US" sz="2400" spc="-1" strike="noStrike">
                <a:solidFill>
                  <a:srgbClr val="000000"/>
                </a:solidFill>
                <a:latin typeface="Comic Sans MS"/>
              </a:rPr>
              <a:t> </a:t>
            </a:r>
            <a:r>
              <a:rPr b="0" lang="en-US" sz="1800" spc="-1" strike="noStrike">
                <a:solidFill>
                  <a:srgbClr val="000000"/>
                </a:solidFill>
                <a:latin typeface="Comic Sans MS"/>
              </a:rPr>
              <a:t>(Vandervoor, 1983; Glassman, 2001; Chiapetta &amp; Collette 1973; </a:t>
            </a:r>
            <a:r>
              <a:rPr b="0" lang="de-DE" sz="1800" spc="-1" strike="noStrike">
                <a:solidFill>
                  <a:srgbClr val="000000"/>
                </a:solidFill>
                <a:latin typeface="Comic Sans MS"/>
              </a:rPr>
              <a:t>Hohloch, J. M., et. al., </a:t>
            </a:r>
            <a:r>
              <a:rPr b="0" lang="en-US" sz="1800" spc="-1" strike="noStrike">
                <a:solidFill>
                  <a:srgbClr val="000000"/>
                </a:solidFill>
                <a:latin typeface="Comic Sans MS"/>
              </a:rPr>
              <a:t>2007; Al-Sabbagh, S., 2009; </a:t>
            </a:r>
            <a:r>
              <a:rPr b="0" lang="es-ES_tradnl" sz="1800" spc="-1" strike="noStrike">
                <a:solidFill>
                  <a:srgbClr val="000000"/>
                </a:solidFill>
                <a:latin typeface="Comic Sans MS"/>
              </a:rPr>
              <a:t>Qablan, A., et. al., 2009</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orists who inspired practitioners to adapt content oriented curricula that embrace the direct instruction method of teaching are </a:t>
            </a:r>
            <a:r>
              <a:rPr b="0" lang="en-US" sz="2800" spc="-1" strike="noStrike">
                <a:solidFill>
                  <a:srgbClr val="000000"/>
                </a:solidFill>
                <a:latin typeface="Comic Sans MS"/>
              </a:rPr>
              <a:t>Skinner and Thorndike </a:t>
            </a:r>
            <a:r>
              <a:rPr b="0" lang="en-US" sz="1800" spc="-1" strike="noStrike">
                <a:solidFill>
                  <a:srgbClr val="000000"/>
                </a:solidFill>
                <a:latin typeface="Comic Sans MS"/>
              </a:rPr>
              <a:t>(Skinner, 1967).</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randombar(horizontal)" transition="in">
                                      <p:cBhvr additive="repl">
                                        <p:cTn id="7" dur="600">
                                          <p:stCondLst>
                                            <p:cond delay="0"/>
                                          </p:stCondLst>
                                        </p:cTn>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2" dur="500"/>
                                        <p:tgtEl>
                                          <p:spTgt spid="15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7"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erature Review </a:t>
            </a:r>
            <a:r>
              <a:rPr b="0" lang="en-US" sz="3600" spc="-1" strike="noStrike">
                <a:solidFill>
                  <a:srgbClr val="000000"/>
                </a:solidFill>
                <a:latin typeface="Comic Sans MS"/>
              </a:rPr>
              <a:t>(cont’d)</a:t>
            </a:r>
            <a:endParaRPr b="0" lang="en-US" sz="36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orist who inspired researchers and practitioners to adapt both inquiry-based and direct instruction methods of teaching is </a:t>
            </a:r>
            <a:r>
              <a:rPr b="0" lang="en-US" sz="3200" spc="-1" strike="noStrike">
                <a:solidFill>
                  <a:srgbClr val="000000"/>
                </a:solidFill>
                <a:latin typeface="Comic Sans MS"/>
              </a:rPr>
              <a:t>Vygotsky</a:t>
            </a:r>
            <a:r>
              <a:rPr b="0" lang="en-US" sz="2800" spc="-1" strike="noStrike">
                <a:solidFill>
                  <a:srgbClr val="000000"/>
                </a:solidFill>
                <a:latin typeface="Comic Sans MS"/>
              </a:rPr>
              <a:t> </a:t>
            </a:r>
            <a:r>
              <a:rPr b="0" lang="en-US" sz="1800" spc="-1" strike="noStrike">
                <a:solidFill>
                  <a:srgbClr val="000000"/>
                </a:solidFill>
                <a:latin typeface="Comic Sans MS"/>
              </a:rPr>
              <a:t>(Glassman, 2001).</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researchers who advocate using both methods simultaniously are </a:t>
            </a:r>
            <a:r>
              <a:rPr b="0" lang="en-US" sz="1800" spc="-1" strike="noStrike">
                <a:solidFill>
                  <a:srgbClr val="000000"/>
                </a:solidFill>
                <a:latin typeface="Comic Sans MS"/>
              </a:rPr>
              <a:t>Chiapetta &amp; Collette, 1973; </a:t>
            </a:r>
            <a:r>
              <a:rPr b="0" lang="es-ES_tradnl" sz="1800" spc="-1" strike="noStrike">
                <a:solidFill>
                  <a:srgbClr val="000000"/>
                </a:solidFill>
                <a:latin typeface="Comic Sans MS"/>
              </a:rPr>
              <a:t>Poon, C., et. al., </a:t>
            </a:r>
            <a:r>
              <a:rPr b="0" lang="en-US" sz="1800" spc="-1" strike="noStrike">
                <a:solidFill>
                  <a:srgbClr val="000000"/>
                </a:solidFill>
                <a:latin typeface="Comic Sans MS"/>
              </a:rPr>
              <a:t>2009; Marshall, J. A., 2000; Oliveria, A. W., 2009; Robertson, B., 2007.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tement of the Hypothesi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hypothesize that the group that is taught using both methods – the inquiry and the direct instruction methods – will achieve greater performance and more independence in learning than the other two grou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56:28Z</dcterms:created>
  <dc:creator>Family</dc:creator>
  <dc:description/>
  <dc:language>en-US</dc:language>
  <cp:lastModifiedBy>Student</cp:lastModifiedBy>
  <dcterms:modified xsi:type="dcterms:W3CDTF">2010-10-19T23:55:39Z</dcterms:modified>
  <cp:revision>9</cp:revision>
  <dc:subject/>
  <dc:title>Inquiry-based Teaching vs. Direct Teaching</dc:title>
</cp:coreProperties>
</file>